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ABB3-25BE-4959-961D-DC2BABCF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5B27-1343-4898-803D-DA1F5589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27FBA-C4CA-4541-B991-57BF3B94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1E497-F34A-4F12-A2C8-FF09B4C4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517FF-3091-4A76-828D-6DD7C382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180FE-002D-4A24-9814-8FAD9671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BED3E-635A-41F7-A4C3-615749A0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E27E7-D5CA-45F8-A66F-CDB0F946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0935E-1956-47F4-9AC3-AA6DC88F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61729-F948-4E4D-A0AF-1FB7E344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DDF26-5C6F-4C99-A134-11E380E8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B6E8-9CDA-4FEA-A0B8-A3643A95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D150-D96C-4F5A-80F1-A1FC8B39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EB90-4BB3-4D52-89C2-F09552D2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8B6F-12E2-4CED-93EB-4797288D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FFBF-78B8-40E4-90F1-E099A006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1794-AD99-4E1B-AA6E-0BCE4D3E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FFC6-07C3-4AE3-9725-AF5BF94F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749C-6FA1-474B-B237-D0E3D5B4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9BA2-6D70-478D-89E0-98B9D506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BD1E-7048-4E29-9A26-FA80C7A1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5180-3D10-47E6-8E70-35DC120E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8595-1239-43BB-A531-FD4BC2EA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96B1-5633-4835-9886-221946E6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C4A0-C9B8-4CF3-8DCC-67F8AE0A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C4CB-B172-46EA-B525-79992D96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D9FFA-EC2D-4425-A8BF-693B0D7F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81A91-9F95-41DA-BDB6-B4D1FB35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FFD90-3B92-4100-A72C-A280EA80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7B0AF-6D47-4E58-A686-60C6BE68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68D84-D860-4C45-A55D-540D1F03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4B2D-72F2-424B-BD03-1BA752E2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5766E-D3AE-4041-B984-5446A08D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20165-D026-407F-8C18-6B68F3E0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E56E2-E4E0-449A-97D3-42664B39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1D123-A805-4886-95BF-EB465EBA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E77EE-2AD9-482E-9A67-FE68FE5A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8D62B-CB6D-41D1-8F24-C073E440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DC712-5463-4328-B3D4-C6696107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622DF-3E7D-4050-ABA8-42D00313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E306C-D193-4AAB-84CC-5E82101D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1F0B5-E602-481D-A657-6BD8FC3A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7AC9-A2D2-43A5-9E04-47082643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876F2-B9B4-471B-8461-EE07471E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BF7DD-3F5B-4769-918C-C0D2FEAD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98867-3525-4F90-A47F-6CE7EF33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D3DC1-E2FA-4329-8ADC-F5A9AEA1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3254F-0931-452D-95D2-6C0D8DB2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2DF09-C251-4086-B01E-3FE0CB76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DBA03-E0B9-4453-BF4B-257D6FDD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F29D4-48CE-4BBA-966E-F82C0BC9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6B274-0B29-4EDB-B8AB-32D492DF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65697-6163-441D-ABE4-1953178A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E15A-9385-4C69-972F-F949DFE0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0EC20-721B-472B-B733-97CEE9D8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2BD84-BB83-4D4C-BAC5-E2F99B02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1661B-7264-4E3E-BA21-7BE08C24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99029-4ED9-45F3-87AE-46C13502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4F7DE-BAA3-4BDC-8D35-1722D230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34A43-A2C2-45D4-B5C0-AD455754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C159F-83BC-42BF-A4D1-FCEBD107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8DAA6-1107-4C1A-A556-F6A022E8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A00ED-37B7-435C-9C32-B3ABCE23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5D57B-53B5-4774-A1A5-1B41A035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0A4C-7ECE-48D6-8011-D03417E5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5BD33-A96E-4106-B2E0-EBF6A8EC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66E59-C5A0-497B-99BA-3F580157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86984-3FBC-42AA-ABE1-AB8E3491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C5FAE-A981-49AE-9B53-3DC13E2A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867C8-59B3-4CB3-AD65-512C5FAF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D7326-736B-443B-AC40-3DA34A86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A9269-72C6-4C68-B7CA-629148F6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2E54C-E76F-4346-A966-E1DEC935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2C155-D61B-42FB-81F3-90169C3C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C2764-8C0C-4E60-8349-F5E090D6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5816-E8AC-4DA1-9F71-1BC3DD1D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E32D1-54BC-44C6-9582-6B8EF814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5A367-189B-4E63-84D9-7D73AF4F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6B089-4D35-4E78-9ED5-355F726A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86A6D-8C31-47B3-9346-A0D49206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E7C8C-0DC9-4F43-98CD-2B12276C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226E4-084D-4344-9ED5-78B120C5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CED11-44F9-4DFF-ACA0-ABDCCC96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AEFFB-513A-4181-BE8E-991556B2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CEA8E-D658-4257-A6E6-E0B48A29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F048E-DEE3-4D71-B0DB-E6F089B2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B93F-4784-405B-88C0-A9C51DF6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3250D-A9D5-42D5-BD29-EBF79399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8793C-7116-4AD8-9035-782ABDE8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B9606-958B-4787-ADDE-B1205B2B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E74F6-1080-4B93-B069-6C3863C5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665FB-6943-406D-B8C9-8E6C2D8E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8DB29-9DF5-442F-81B4-37541592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D11DF-FE8C-46F9-BB95-0A442F96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CF026-1217-4C5C-9C3B-C651A564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5BB63-562F-4F31-B0DB-6EF656A3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95DC4-FCD0-47D2-AE67-F16A4694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70D7-CC96-494C-89B5-D8F36C3C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857AE-DD24-4620-99CF-07B546A3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3351B-75FE-468F-A4D2-81858C6A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806DB-FF6F-4ADA-906A-D0492A45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08374-20C5-4C53-BDE0-44C1ABE6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FC5D6-3FB4-4E48-9287-416EAC03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D1A91-0D22-4C2F-8A22-5C383FCA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141F8-AB95-4C4D-98E3-7FAB2394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2BE18-2418-40EA-9B66-9D968C2B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D107D-870C-4569-A553-4D3FDB2E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8EADE-1C9D-4E96-9CC3-58D92EF6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D136-3647-4E17-9148-2D996BEBD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3897-2548-46B3-8934-183EEC167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895120"/>
            <a:ext cx="822960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F1D8-7E8B-4EDA-8294-95C1E7F6E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76AC-A90D-48E0-994D-AF39DE30B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381A-5053-4718-8542-CAE8245FA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2895120"/>
            <a:ext cx="822960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5D06-2EA9-42D4-A7C8-3A8335649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1E1E-7112-4541-AC4B-1BCB87738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0398-9EC6-401A-BB93-BF8BFABDE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2895120"/>
            <a:ext cx="822960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D5F4-7439-4328-8492-C520E82A2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12.1: More about parabola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onic section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b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b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3048120" y="2820960"/>
            <a:ext cx="579096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General form for a conic section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cxy+dx+ey+f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abola only u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dx+ey+f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eversing the parabola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ve been 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x+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we’ll shif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a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y+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ape do you think this will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4800600" y="2266920"/>
            <a:ext cx="37339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Try graphing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x+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3733920" y="1600200"/>
            <a:ext cx="455292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8:26:25Z</dcterms:created>
  <dc:creator>nuhs</dc:creator>
  <dc:description/>
  <dc:language>en-US</dc:language>
  <cp:lastModifiedBy>nuhs</cp:lastModifiedBy>
  <dcterms:modified xsi:type="dcterms:W3CDTF">2007-12-06T20:36:40Z</dcterms:modified>
  <cp:revision>3</cp:revision>
  <dc:subject/>
  <dc:title>12.1: More about parabolas</dc:title>
</cp:coreProperties>
</file>